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slideMaster4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9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</p:sldMasterIdLst>
  <p:notesMasterIdLst>
    <p:notesMasterId r:id="rId61"/>
  </p:notesMasterIdLst>
  <p:sldIdLst>
    <p:sldId id="256" r:id="rId62"/>
    <p:sldId id="257" r:id="rId63"/>
  </p:sldIdLst>
  <p:sldSz cx="9723438" cy="7559675"/>
  <p:notesSz cx="6897688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notesMaster" Target="notesMasters/notesMaster1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976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03360" y="1023480"/>
            <a:ext cx="5673600" cy="4411800"/>
          </a:xfrm>
          <a:prstGeom prst="rect">
            <a:avLst/>
          </a:prstGeom>
          <a:noFill/>
          <a:ln w="12600">
            <a:solidFill>
              <a:srgbClr val="d9caa7"/>
            </a:solidFill>
            <a:miter/>
          </a:ln>
        </p:spPr>
        <p:txBody>
          <a:bodyPr lIns="89280" rIns="89280" tIns="44640" bIns="446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move the slide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01" name="Group 87"/>
          <p:cNvGrpSpPr/>
          <p:nvPr/>
        </p:nvGrpSpPr>
        <p:grpSpPr>
          <a:xfrm>
            <a:off x="628560" y="6035760"/>
            <a:ext cx="5626080" cy="3686040"/>
            <a:chOff x="628560" y="6035760"/>
            <a:chExt cx="5626080" cy="3686040"/>
          </a:xfrm>
        </p:grpSpPr>
        <p:sp>
          <p:nvSpPr>
            <p:cNvPr id="2502" name=""/>
            <p:cNvSpPr/>
            <p:nvPr/>
          </p:nvSpPr>
          <p:spPr>
            <a:xfrm>
              <a:off x="628560" y="603576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28560" y="6404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560" y="67723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560" y="7142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28560" y="75103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28560" y="7878600"/>
              <a:ext cx="562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28560" y="8247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8560" y="86155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28560" y="8985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28560" y="93535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28560" y="6404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8560" y="6772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28560" y="7142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28560" y="7510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28560" y="787860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28560" y="8247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28560" y="8615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8560" y="8985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8560" y="9353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9760" y="4765680"/>
            <a:ext cx="5517720" cy="45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Espace réservé de l'en-tête 3"/>
          <p:cNvSpPr/>
          <p:nvPr/>
        </p:nvSpPr>
        <p:spPr>
          <a:xfrm>
            <a:off x="0" y="0"/>
            <a:ext cx="29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Titre du stage ou lot de transpar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Espace réservé du numéro de diapositive 4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BCB2-5FB0-40BE-AED5-254B55D87C2B}" type="slidenum">
              <a:rPr b="0" lang="fr-FR" sz="1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i="1" lang="fr-FR" sz="1100" spc="-1" strike="noStrike">
                <a:solidFill>
                  <a:srgbClr val="000000"/>
                </a:solidFill>
                <a:latin typeface="Tahoma"/>
              </a:rPr>
              <a:t>blog seed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consiste à envoyer en avant première aux blogueurs sélectionnés un produit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Espace réservé du numéro de diapositive 3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381-B0AC-4799-A965-B698CD3558F2}" type="slidenum">
              <a:rPr b="0" lang="fr-FR" sz="1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1994-EFBE-43DA-8030-28F9F1067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3F7E-DA11-4EBF-9C3B-A854F2A093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9C23D-56A2-4434-9568-9C9F0349F5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4AA1E-3004-4816-A1CD-6385954FD9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F418B-163A-449D-8ADD-33E677B288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4664D-E7C9-4577-8A4D-50F10B39E3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32E26-C52D-4F1F-945C-50232BB5F3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E6172-15EC-48FC-8F26-F79363D324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007C3-8CC5-4B87-921B-13436BE38B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BA360-630D-44B8-A211-C52B1B4E78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E6B1E-0CFC-4A46-A1D9-33225748B2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17714-7442-4836-8B4E-31482099D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0C2D-AD81-4443-B94F-66F1BC48F3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3AB2B-6143-417B-A982-9D280359C9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F09F68-5974-4E7A-8C83-660543568E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2C558-3577-4C1C-809B-0EBCE04A7F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7D265-50F8-43AA-A1CC-D8E55C7C90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E1924-EEDE-4D91-8BDF-F56D54F886E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3923F-FCC0-4103-B99A-99555F2D77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5D1B1F-7D60-490E-A390-11AA5ECF6F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8D850A-B331-4C7A-9769-C46F139C26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4FD47-3951-4173-B0C0-D56E6D4DA5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93091-42B3-44DE-B8FD-0C338C3F9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455B-6E0F-47B1-B1EE-273552445D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CFB79-58BF-4715-B4EA-45E5AFAF738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0F03-9975-4E83-9A9D-EF6C53E87D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1B54-0567-4ED7-B92B-9B54BF9A6A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31BE8-C146-40D4-BD54-4C40DA835C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9A35-F28B-440A-A76F-2F655E65C3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2885-FB81-467B-8DC0-9FA9C3ABB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5236-A456-4825-A3DA-10B4F71E1B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E146-93BF-46E9-8D56-0AB17C19DB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B590-A36D-4D90-95CE-BC570CF2C8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8305-C2A8-41AA-8483-3350451ECAB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8B22-DF17-42C8-A966-B777347F5C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C62D-DD0E-46D0-8EC1-7FE650DDD3E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5D8A-C252-4255-89DB-0CD2B26D04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C99F5-D6F4-43A8-BED9-7196305CE2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76FA6-7B97-4998-8271-E041872DC73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C60C2-6CD0-4ACD-8F69-3391D2BB3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2BF3A-F2ED-43DB-A05F-D0B79A5451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648BF-8E56-4A48-A58E-864768A05F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A0AF0-3768-4DBB-B7B5-8D1370E2803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ABEF2-83D2-42E6-8FC0-FBEF074FB7B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91BFE-671F-481B-A4C1-22AECB043A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97309-598F-4FB9-A75B-4456079F03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918AC-BE15-4421-AE70-3C314BA2CA4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EAB34-9143-418F-A20F-B674E71907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0559F-B2E3-4C04-BDF7-0F62AEC6E03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55A37-8976-472E-BC29-E9C0480148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17D437-B6E9-45E9-BB8B-A0243B9DDD3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6A477-F0F9-4FF1-B617-666D120E42F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721D3-EE53-45FD-AF2D-C378491BA64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051C7-C45E-4AC7-95BF-20A40E9D74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24AF0-7FB0-417C-90FA-F99F0B915E0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F723C7-4973-440B-9F21-D7DDE84F73F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5AFEEF-6AEB-419E-B41F-EEFE54FFA6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F35BD-4914-4014-9AEB-8341A0CD5A8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FF7DA-997C-48E4-B679-4DF25305DCA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061B8-5A04-4BB9-862F-16A2411D4B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F0E35-EA35-4273-BD81-DC08DEDBFE4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6EAA-3C93-457B-9C22-EC107479C83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DAAE-2B53-4747-AE4B-4DE3CFF18C9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A6E8-1768-4347-80E7-C943665CAEC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039C6-ADE9-4C9A-9F1C-17E836F551C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7785-2861-4F3E-BBC6-F8F188C4BD0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097D-AB19-42D7-81AB-B68B4B5E33C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9897-26AA-42AC-9279-48057A7FB79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73C0-D877-4435-9A96-E1E3DEAEE21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DF8D-2898-4DD1-9364-3455BBA9B6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B70D-211D-44C7-BEA6-649920636F0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1A85-6A7D-4C5A-B69D-46B7B3E4CE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8F3F-5F79-4DE1-98DD-C96653F6914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654C4-7D4A-4933-8A98-A586BCDC0BE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6B957-014F-44FB-850F-8D72DD81CE4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3461F-691B-46BA-99FA-BBC7635DA60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65060D-16BD-4AC3-B4F5-20F8F5508CF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A75E3-F9C4-47AA-9179-24C6A48C5D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E343D-B9CA-404B-91E5-0DC867BF116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5E0C2-1020-4CB3-9183-A5A770927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76B4-9176-43B1-9B64-E734826FE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F9F7C-26AD-4637-9DA6-0A0C6E7429A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CCCA7-FAA8-4B05-890B-708FC04FE03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3406C-28E7-4EEC-90DD-C4CBC903ED7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30E93-2137-4AB7-B7CB-AF23FAF5C9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7DCCA-4D48-4DED-BB76-15680E9201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76887-4020-4A05-B2F8-C3AC5DCE770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FBF76-4175-4B30-9ABF-7CA8D022613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33A51-9A7C-40E8-B597-1E8AF3D4E62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1697E-3217-4D29-B74D-F4476B815B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FCB45-C727-4349-ADC6-FEEF4842F2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CD314-104D-4C46-A95E-576827646E6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FF46C-72DD-4FD9-A6A7-9AB92CE2170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8A21B-8A4A-46D5-8363-60C12C8BC11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9CC23-ABB4-4F92-ABCD-25FF5BD17F9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06EF8-3BB9-419D-93D5-DD5604D0EC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9F5F9-3295-40C8-8D5F-76DC976D7A5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C292E-2C80-459A-B169-37514B01B70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73503-848F-490A-B92B-B8C3F590BDA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B0442-EAC3-4ED4-A3D9-70EBB3DE286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C73FC-A2D8-435A-9686-1448B3D5D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E4BE2-613B-45DE-A6B1-A748B6F272B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6BEEC-539E-42C4-824E-D9920EAC362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0700-C380-447F-B943-91F5253C89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0EEC9-ADDC-4AA1-95D8-4D2DD3ABDF1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FB403-0436-4DC1-A26A-6EE57C17856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F5C2D-E961-43C8-8953-B5BB5F26436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D72F-8DE1-4B8C-9C39-FCF7FFB5E8B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9BB0-C00A-4A0D-8E76-1B3649ACC59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6F276-5079-430C-AF90-143A47AF9B7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D4AEB-6BC5-45EF-9B82-2B8A2E6B8F6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10B6F-B1B9-4A91-BA83-BC68344D90C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755304-A282-41BA-8E43-5799E30A26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0DCF5B-1AFE-4852-94E7-3B958A084EE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75C533-C4F5-4190-8FE0-22A6D42B2B9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44814-43BE-4067-9193-A8D9B7B2D4C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60693-1C6E-47FA-AEEE-C91E84397B5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1F84A4-6E8D-4214-B4DC-D6811930E6C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5B8ED-92F3-467C-8867-00FCDDB1B7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760-BDBB-41F1-B6C6-340EFE07206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8DA1C-460E-43DD-BBA6-E5AEF967728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FA4E7-1B95-46F2-BC99-54410B22E96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1A6780-C8EE-45A1-80A3-6BB335283F4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4822DC-4505-46E4-A706-EB6BAF35B0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C11FCB-397F-4AFA-B305-9572ECA41FA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2D1B0F-D2BF-416C-8BD0-F968A8DFBFC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F9B4E7-B7E4-42E6-A88B-38ADFBC3CFD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CD738E-3B55-492D-A7D3-F9955A8E2E1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9AD371-572E-455D-B8EB-3044A431F71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42DFA9-BB7F-4568-9B93-6A90A620C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DA2-F1A6-4234-8520-4D0DE7E003C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586A0E-BFF9-4B87-86F0-FCE0DE80A58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74EAE1-AB6F-4CD2-852B-36403D3F24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D03A43-E3EA-42B5-A5A7-3106D65AD8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20BB28-DEDA-4690-A933-EF626B45F5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31D8F6-0182-4692-865F-7008DE0716B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F37F-EF10-4943-828F-759ABF0AEE2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437B-4B2C-4786-A07F-69DE54F4B52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B2BB-2A08-47F6-B2BF-DB017FD8D31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44331-41F0-4756-817E-4B6BA4B5751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31340-E92E-43C4-8754-8061AC625F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235-EF94-4F18-A0D2-CFAC42B162D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C4B18-3EA3-41B7-A6DE-091110216B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00655-2EC7-4CA3-92B0-84421BDCAB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4112-29E0-46EB-9B99-9228A40FDF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9D399-3BC4-46BE-AA28-16DF14BA2C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F821F-B541-4482-98EF-0CA19E4FCD5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0109C-90DF-497B-8475-FEFD55F0ADE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6F9A3-B99C-4D62-9849-4F81E1B40C1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E27FCF-67F9-47BF-91EF-F87E639715E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F6924-7733-4968-8DAC-31D02C166AB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7743CD-CD7A-467A-BEC0-36881D185A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549-D126-4035-AEA5-55252D02927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639AED-73D2-415F-BB87-EB3E47D4A74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C64CF9-7FFF-41D6-9F65-9F16A07F95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3C7502-8B5D-47BA-8103-354ECD3DDEC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AB76F9-FEF6-4752-A0C1-F1F194C55BE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7E356-4E47-48B8-B482-E877792CFD9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7D9AF8-6115-47F1-9D2C-78E1FD94BD6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FC37FF-C2E5-45D9-B2E9-445BE8A23D9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860632-1F6A-4BCF-9CD7-D52FC54774C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98578B-A1B5-46D8-BC2A-EDED30FE75E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53978B-2F4D-4936-A0B6-EEA41CF02D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E42-76DB-481F-BD08-6B9CF738485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FE87CD-1A48-4CEE-AC6C-61860F124A3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246F6-AD7C-4EA1-AF70-400214DC643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256606-7332-4F67-A249-4A86B3E9B71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D578EE-C65A-4AEE-A0E6-D1A87209B59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3D0048-F481-4479-B7C8-429F5588DF9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ED5E06-3F60-4297-B038-E02A3B21A68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7FB552-A90B-4723-8E5E-AECCCE32CEF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68AFEB-A393-4ED1-9D3F-94BA7889407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DC5698-CCA2-411B-B91F-92683F6A9D3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51A1EA-60EA-461B-984A-43F029DF1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C131-84F4-4C9D-AB04-69D36B0EF8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706-E1FF-40EB-AF1C-DC88B48765D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8CD6A7-5BCC-43FA-B47D-181B9695213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DBD38-157B-456B-8DAB-0C263121AE9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412B1-DF72-4FB1-BF4B-7091AB618D7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706C9-6028-4673-BBB4-D9E609C3606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0F79E-746F-4D70-AE3D-8E23293725F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C54BC-8A7E-420B-9003-9ED5D366C53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26C7D-10EB-4E3E-87EB-BBAB8F80D53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4D53F-034F-4810-AA02-447B5BA505A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A3E27-4609-4DD2-B620-946E68E0CA8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46D0-281D-471F-8A34-2563ACB012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3E3-ECCF-4926-88D0-EC7F417ABD5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E839F-AD6E-4C8A-B4B8-A96F112B6E0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322FE-6560-4BEB-8E72-896B16F3563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D2B90-DD72-4AAD-8044-10E63A2166A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7FB342-B2B1-41F0-82AD-1F1312C406B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E74FA9-0966-471E-8E0C-8F8798AD61C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D4EACB-7A4A-4EDF-ADE0-C4EA2D94F41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2047EB-BCA1-4408-8832-3E69088989B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BC689E-6E2A-4EFD-BEA5-E16378D0CE1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E211B7-7F9C-4DDB-9519-711F7AD6A3B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11FC5B-929C-4878-B7E3-98769C375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1F3-6B19-4E4A-8EA6-47DE2831997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3C9980-7550-4FCD-BBAE-4CB0A40871F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A65D54-DC75-41F3-B372-762F67D53C9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F9C9A-FBD5-4022-9281-5D486AD6627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F3CA3A-1CBA-49B4-AD30-39EBD78CC50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9B7964-3766-480F-8650-26B635BCE23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094-17ED-4B45-A862-FADC32D8CF3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4358AB-8042-48E2-A007-8A5DB838AD1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9F4171-9D2B-4B08-8B4E-FAADB3C2E42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5A93DC-2299-40D8-BDB7-0E2323C94B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01B-50E9-48F6-A393-3F0651FB754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3E5870-17D9-4C73-BBCA-78F60DD7684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F83664-48F4-47B4-80C9-B0E5195D592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F38D3A-27B2-4CC3-B59B-0FCDEB3E6F7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0587A5-A32E-4348-9528-91AD0F4EB7B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8862B4-A161-47EC-89CF-221C7E88465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253A66-7811-4F27-8233-3FD84CB4A67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7D51F8-4F85-4ED1-888B-80C1049EBEF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EE1F5C-CC53-4E02-AF22-5DE6D5821A1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6EBC1B-7F2A-4EE8-B932-62AFE70F5B7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A8C49-1AF7-4ACB-BA86-8BCDA02089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611-7269-45BD-A23B-4AFFCBC8CA9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784B8-728F-4594-86D7-ED697B9C1B5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490D9-20A3-4800-AF76-D4667E5AF02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9371B-C10E-4536-B1FC-0D4EB947952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C94BA-635C-40B9-AF7B-9D435575857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FFB6E-E046-4A6E-B479-4D26D3D452A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D589C-0E39-4C24-9239-3B42F574AF8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D2914-C261-4B30-87F0-52FD88D7495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401DF-7FDA-4BE3-ABCC-32EE8817CF7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BB0AB-6B77-4F6D-A55B-50C17AAD0EC0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34A19-4BE7-484F-805F-88784DF21F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4C1-1E91-406D-AFC9-57125160BA5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DDD9E-D58D-4C77-9DEA-3E90D07360E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DEBDDD-F075-4854-AECF-C2D147C75A2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7120B4-55AD-4798-AC6E-D531AC8854D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B95487-B670-4CC5-A98B-A284C83AB5B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30F4DC-4127-4913-BBFE-8C288F55E4E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175BCE-F018-4B98-B008-000B330280E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085849-5B48-41BA-9710-2B8EE398F1B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2408C5-193D-4590-B58B-148AAC49F11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07999D-9785-4C3A-A3E1-7D43D5839B9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BDB8C9-523F-4F9C-9EF1-C35745791D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A85103-40CE-4A05-9381-FD2D76C0F03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D6D650-9BFE-4C6E-A0B5-2F68E0B0E87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FDA79D-78FF-4AE6-8FA5-7218ECE358F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C8A209-9D36-49B5-8648-B0A8427F6E5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6398FA-335F-4091-964F-CC97F62B7F0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A86063-F741-4DDC-8678-BC4B1A21AE3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C28F2F-B129-4223-8AE6-040BC530214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5BF33B-8201-4E13-9FD5-B52E57C936B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97E2B8-E8F1-4699-877E-D5CDA86A47A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C7DED6-101A-4DD4-9EE1-D5D069ADEF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CD9C3C-9036-4D5C-B5CD-5EF83198ADC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DC1DE0-4934-4D9D-85E0-9CFFA5B8205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D0879E-5C6C-47E8-8B72-33A51C14D9E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8D3AF2-726E-4975-B7BF-1EC017DBBB4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3A3445-5EE1-4EBC-8033-94CC0C0D3E5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9C3A0-2FD3-4430-B222-C876AF7082E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188F9-045A-4D4B-A2E9-B37371FE5AE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76702-8BC5-485C-BF02-569455C8FBF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4D606-585B-487F-99D2-6D1ED20E20C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1B4FE-BBA2-4249-84F6-7E1D30F6A7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B2D7F-FE84-49AD-B324-83E228A957E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2981A-90E9-4E2A-8845-8F52BED9848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5C459-0DF9-454E-B918-330042D4641C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9BF93-2C4C-403E-A3E8-2362D28BC9D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9658E-D412-45F4-9014-0CA95D3BDF7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40C4C-EC1E-46D9-BD2A-C69416BB4C6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33B2E-4712-4736-BB83-F10B2572773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5D6823-6E78-47F5-8BB4-364DAD7E7F7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742BDA-B7E1-4490-BD0D-F9DD12B1E2E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65FAF4-ED38-4AC5-8EE4-B80CFD9BE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ADCF-E03D-4FDF-9B55-0A7DA30582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757485-8DB9-4FE1-A4D7-96B743067E6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90CF74-9D7F-453B-9884-C2036C9A6F1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E8DBEE-4350-4AC7-8DCF-A521D81E29F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3FB02F-7D65-4760-9CFB-5B5A8FA34AA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A3A8AC-9FEE-4E9E-AA77-B72160F86DB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B38C38-4F10-4989-BF1E-7B87288F913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0CDD4A-C8F2-4DD9-AA18-161839CEC18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ED61FA-F2C3-4AB7-A793-00E104C0D28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4DF2F0-A6A4-41C3-B011-A489DF7718D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453540-A6D4-49A9-921D-BB94A8613A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0F0EB1-26BC-408D-92C6-6129A196251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496A2F-D17D-472C-A713-1C1FB71AF78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451A3BE-EEA9-45BA-B81F-8625612EE98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96662C-A21F-42D3-80C1-F0EE7803567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37FCA8-3E4A-4A77-B334-5343F1F1EEC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1EC87A-D4EA-4AB4-8B5D-75FB976B49D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3737A6-ADE3-41C3-821F-D941CBBF752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5A2A0B-FD90-4131-9970-26813879C0B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F8A816-4FA5-4B77-8FB6-DBF2A759818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1729BC-65CA-44BA-AC71-F3165C9D75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D400EF-1E10-4725-AE99-7FBB0D6D1BA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77941-5B42-461C-8306-D75DD00D20E5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2296F-3151-4871-98CA-F818C9B1602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FB139-D48D-4B14-92F6-27DE0DCA1B9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96AB6-5BF7-4827-AF48-5E9B103BB61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8D7B8-2813-421A-9158-BE09D8E3CE4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A5007-0FC3-4C97-A28B-E634C70D9D8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820084-A488-4777-8612-F206ADA1E1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FAC90-9111-466F-A263-9B89BF0AE9D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8B01B-7CFF-452E-906B-34E45CD8FF3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AB8EA-ED25-46E1-9E8D-844CED1D595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D39A1-B0A4-4C31-8C60-CF0C17DCD94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1502D-F79F-41EA-BE22-93B24239830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9D3734-45E6-4041-BDA8-55B1E0EFC5A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F84F09-D90D-41CB-8746-2ABCD7C79C47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5CC5EB-78D3-493E-B65B-95B737A8100D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EC4387-31A7-45DF-A3CD-042A5F6C1628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0BC140-9442-4756-933E-02B73D2720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C3947D-EEE5-4FAF-9102-36CA7346140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75D2AB-35D0-49B4-AACE-2AD31A8ADDE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4F1119-D1B5-4317-B360-D254B803B4E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DAF7D8-4BA0-4BE9-8329-91D13770DF8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775008-7D61-4F88-A51F-516AC2919DB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AA88DF-035B-441A-8E18-D64400D921E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5C8338-C3A0-4AAC-9589-D832DB0EEAE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B15D5A-966B-4739-A8C3-96D41BF9C90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DC108A-6ADE-432A-9FB4-14DB3A017F6D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2F0E90-7C5F-41A4-AA25-4AC6FEC570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4E42AD-4448-4FB5-A239-A5F3C868CEC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3BAC5F-77C8-4538-A189-AA3C06F5D1F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759002-9A3B-4C18-9478-07199D67011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9F3ECD2-9BF0-44FA-B806-39BBD00EBC7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DD7A5E-F2EA-491A-863B-27DD4DE25CF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411F8F-32DC-4643-A234-AC950571A48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C11705-DFC7-463C-883A-0D1A357856E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B800F6-5061-421A-9CA2-D2232A5848C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7A5018-C004-45CF-90F8-7593288C6B7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CF1BE-59D0-4F02-8F92-7EB3000B5A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1FDE9-B56D-405E-8327-513A66559DB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87DDA9-8BF0-4798-8B32-8A674876736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4D2E1-41BE-4527-8F09-0D33F2DA22E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06465-3653-4EE7-A666-829FF0151CD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A24E8-B44D-450B-AC95-6B7D1A469E7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4EA97-7089-4E5D-A970-87A7C40C93B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DF444-EA3A-499A-8175-BD4596A1DC0C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CDABCC-A646-4F85-8CC9-9F88B092FB3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91054-636B-466C-8E7B-D6CBBBF21FC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2C89A-8F6F-48CB-8753-6442A521C5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7A68C-6266-4936-904F-7D549F58F5C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FA59FF-3C18-421F-93C4-D976D442985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4D22CD-6B4D-4BBE-A475-63DF76DB020D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508F715-8BC8-47FC-923D-EADD0DCD58D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B795D9-7AFA-410A-A9B0-A81840A9691D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745DBF-F6EF-418A-8886-BA90C2987F1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54FF3C-D8EB-428D-B6F2-86F3E13A451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60D427-FF58-437F-BF27-DA330861BB6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134B96-8902-4563-91A6-3C1C466C775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94352B-F4D5-49C5-8D9C-33B152E027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72123-5C77-4442-8F8A-0C073C6A58B9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F01112-C8D5-4967-9161-8D137F032C6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42B2FC-CD47-40A7-A0EF-3B4152F209E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E159E4-113A-489F-8E83-59673268704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7F140F-7D75-4676-9847-428100B69E88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4A490D-138E-4BAE-AD62-0F751601CB1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030672-DBB5-4825-AA5F-869779CC1A0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AC50F4-E3D5-4F87-819C-FC503A6ECF7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110075-8B16-4B39-90CC-B51975EC252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3BC935-D0CD-4167-84BB-64BC97C26D4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B3C35E-3C7A-4E45-ADE4-8DB22BDF7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A8F5-34AB-4A40-BC9F-A32668693E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FD74-C5D8-4CA4-822E-CC02E1E9889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751C97-03D1-45F6-8B90-FC33D20D3B8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F36737-2579-460B-A955-E49C589F333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4E61C5-3ECD-4F69-8D62-A7F4D6DA206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4A83D9-4D18-4566-AAD0-D1E75C94BD5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6E2663-E41A-41E4-B762-EEF43A512A0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37E4D4-A56F-4DC3-9A6A-70205B7B893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47682-72B9-481E-A3F0-2D5DE6B1D43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53961-A82F-4649-B367-A14706E4139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75AB24-D2A0-42E2-A83D-3703E0F9697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2E581-F89D-4E4B-B7F2-4699873D44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4810-6F33-4717-BBC1-5A592F25D5BB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18ACE1-CC82-4D73-B976-C1F692919E9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12AD30-B7DD-4535-AD6D-A5CD4541DDE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DA865-13A8-44C6-9D33-76E9EBD31D4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E7467-8288-4A26-91E5-8FFD83A39B6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F24F24-19DF-4549-9556-31DF8B8B3D6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BA978-49EC-4443-BA0F-C0B579876980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7DA5D4-FC20-4C70-A6D7-3B5EB8CD648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2BA1-DBAB-4103-988C-D52B30DF167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8FEFC0-D50C-42BF-A8EA-6662F3C09E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CF542-1359-44BB-91B6-97F18F5753E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8D42C9-C7A0-4EEF-AB77-3E268A9134C6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162413-A803-4A6A-8BE3-C0B1042B208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E693A4-85DB-4428-9FB5-21EB53E1742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158824-E191-4ED5-A5D9-82D9596D625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62F55A-3641-4CC0-AF22-C881EFB707A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A6AEEB-2150-44F0-9542-A815EB06D21D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88A485-8363-4129-B2DC-D3898F74BF6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0A1356-474F-42BF-A4B1-AAAA46EDD5D4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0B54EE1-4AC2-4854-97E1-E08D77EED22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1138A8-49F2-4D80-99DE-6B1A32D236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98C3D-88E9-426B-B741-DF8C668A97BF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7D9923-4472-49E5-82EC-167525DEFC2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0A8B96-8360-45B0-9865-E9CCC2F4AC84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69A222F-CFA7-4295-A6E5-5F7CAE6716B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8D91A5-BE72-46CE-B8C6-4F4DE71602D7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D76E80-F8D1-4CDD-87AD-A4D2887C9F6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437131-8DF1-4F90-9B83-F0E494ED929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589445-8396-4AF3-B5B6-81F8CED3225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BCAC807-94E9-469D-B2AF-31B23886107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26C596-5A25-45D3-8986-4F0E61DB52E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8F5798-220F-4FC1-9FBC-F1A273720B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3396A-AF5E-461B-B10E-E26CEE2D8F53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05547F-5EB5-4320-87F6-32CDA97A75D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E55A06-198E-478C-93EA-D0E06A736F0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9412129-7C86-4267-B655-33739F3F708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556E8-6082-4F55-B5B7-09541510F61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ECFE0C-1615-4D60-8679-DECB246054E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667DF6-7850-49F6-971D-B203A7B6416D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6155A0-534B-40C7-9777-AD7F32013B3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D2ACB1-A7DE-48F3-9DCB-2B1603F0C51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97456-472A-4A8F-94BF-D8542B07DC3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B3B816-D8D7-4BE2-9E59-DA48F26554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CBF22-DD9C-44AE-BEFE-0E7675AC0A35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38CF02-3923-4B98-BB45-FECFB3E635E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EA5AF2-3A3D-4087-80C5-17AA648326C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B6C82-CB3E-484A-B3C5-B6EDB474C77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37814C-995F-4AFB-BD06-2CC0CDB6320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9982B-361C-4D29-AEB9-124110A12EB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8A622C-1C88-463E-B931-95BA04030D0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1AD98F6-1D6B-4A36-8BBC-A12170C3015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B1325E-DC41-4E80-A154-F6C49F731B6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D21AF3-1DE9-48A6-9B2B-0D333921CC8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4B466DF-EF60-4867-BA5E-297E7B4DE2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4190E-2C17-43A0-90F0-BAC75C63BE6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0EED0C5-2718-483F-B540-B3C90C3CDE3B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241791-0D33-455C-9AC5-8E84CD836C96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BD132D-1B8F-4A8A-905A-C76A13D6A1C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282960-9766-4B6E-90B0-E238184D516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F04112A-C31A-46BE-B2DF-7CF382F7F65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CAEC5C-DB30-47A7-97FF-B07E1B58A03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6ADA4C-6C01-4396-A2BC-D9384E69629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97D32F7-2BEE-4609-9563-12131D2098F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B82343-BA24-4E61-82A5-C14464D4831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426A20-14A7-404B-A573-08B7988D66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F2E89-D6CB-44D0-B9EB-CBBB01FC19A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A31592D-7F2A-44C5-813D-DCD832FB2049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0846EA-9765-418E-9956-4B22835B52EC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CE0BA1F-B83B-4316-A1EC-E49B65C438C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73F8B2-6CD5-4000-865D-7AB6E2B7788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99EEEF-4558-4684-8EB2-067FE77513A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4453794-14FD-4378-B5F6-681E2C82DC8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4A7A1A9-76C5-47C3-BEF5-3364B81FDFE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0573653-F9B0-494F-87E4-9B23BBBE1364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1673BA5-723D-4842-B5F7-429CC4C2C7E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8BD47A-96BD-474A-BAFD-2BC1D14231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CB037-F4A5-4BB4-84E4-7083A8897FA6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3F12DE-9184-4418-9DB9-5ABB341936EB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0B3B96-1AB8-443E-9ABF-78F22716AF5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CBD01C-58BC-4980-9450-E8FC676155F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B7999F-BBA6-4086-8694-DAAA0979F6F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B92DB8-14D8-44A8-8683-BB623299E84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FDAF47-7F35-475D-B4E5-649956D2E6E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152931-98E0-4337-9700-A63FBFB47E7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6B9097-45F2-4DA2-B082-A09141FA5555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25F7DF-4405-4E12-8303-47AC3F536EB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D349C-721D-4ACE-A874-B7DEFCF8E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81FE-BB10-4C1D-BDC5-7C01EE1344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5F73-AAB4-43B0-AC2E-BCF776AA6F71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D9B99E-9884-4131-A274-693B792AC62D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79324C-95FB-40CB-8EAE-9EF5D71EA34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1CFC49-BAB4-418A-858A-2295A02B714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D94CA92-FE10-4A9D-BB02-F0EB99D96C6D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50C3509-EE3C-42A0-A30B-2A113E3EACA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F55C43-8B9C-4F41-83DF-B2366C88310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62CB76-EBBB-460B-9085-801D3CB94F2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F55F618-C77A-43F3-A84B-291D5734A428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0C3CFA4-E80A-4E05-8A5A-59D0DCC23277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31BF83-8F44-4A33-93E9-6DA68529B0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413A9-FB29-4363-9B18-B97B91F20787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5933F3A-9742-40CF-9064-78DD4B33CEF8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B47CD48-9EA3-444A-B386-44A3132DD9A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F89001-B1DF-4980-B3D8-47F3461EFA09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83FC7-A7B8-4440-A664-98D6F8B0A414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983AD3E-2EF1-41B4-82FC-C3160CD124B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CF7B082-20B7-453E-8F5C-1A0F3887B19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8584BF4-0838-46D5-8497-B63A8371D36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EAA94CD-8BD1-443B-B0E6-B176FB91BDF3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CB3F6FC-0AE7-431B-976F-D4B388B607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0BF72-6AAA-4DFB-BE2D-D740EEE1F60B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2B2A0EC-3209-44F8-ACC5-76478026A74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7BA240E-5806-42F2-9D7D-4A407272174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0828CB8-3A98-4B1E-A2B0-4D65BEAC52F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6F54674-8F0B-4462-AA1D-25E3EAC7FE2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F20B41E-682D-4661-870A-055910FC655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89A399-57AA-4200-A145-E258E75983B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F1DF5E-7CE4-41E6-8F2E-36892E2B139D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440683-48A9-4520-A146-904045F1915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A7E83E-B24A-458D-856E-04A2E79325F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A9A386-B48E-489D-BA25-F1DAEC3E8C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03AA2-F6E7-4A3F-BFF2-7371AC573B69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291BBA-1972-4B10-B3B3-FE61C292EC1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5E25FF-A6CF-4304-8174-D8BD40500602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566CA5-FE84-48AB-9372-8BF89AE838F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0469D3-80CF-4898-B051-82A8D26E9FA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E3394E-4F33-4766-AB6E-BC61696389D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87394-6DF3-4EB1-A149-27A366B8F16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1D3258-05FD-48A0-ACF2-A9229EA340C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4BA2DA-0E48-494A-899E-AB049989632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80F83E-6809-4A50-9D7A-496B2F327D0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9A1C9E-EB73-46DE-94C7-58D15E145B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94A4B-CE7C-405B-9F7F-B37FC28BDCC0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437C16F-E750-4D4C-B126-62F36F03DB4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16BA7A3-B204-4B12-88FB-2C67C91DF9F5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5FEF161-39BB-427A-8440-CDD6B141259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13AC618-5E5A-45FE-989F-74613E17E49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56F30D0-3C72-467F-A1F2-008E8B75594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4741BC-B847-4A22-97FF-C5EF9B86557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DF40B52-AA85-4A05-9083-875BA9E0CF4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07CA788-1CF8-42A0-8ADD-E343EDADF1A4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7763261-E616-434E-8759-DB7737E7D5A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9B5061-A152-4514-82E8-C7A9387342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A895E-0F5C-4653-82F7-65D9D9723817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01442F3-AB14-436B-BCED-84B5AD6B435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6E4B0B2-ADBC-43B6-997E-1373F472B695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98FA09E-6E50-49CD-A4EA-9167E52E52C3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F040B3D-0D75-4C73-BD1F-F0334308380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CBE4FB3-3D11-49FF-8AA6-B59ECF5FBC6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B336012-1D47-492E-9FE8-F2D670E6A56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CCC131F-2EAE-4A92-B157-78BA5CF044A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133FC5-F810-461E-B27C-B026A9CC8E2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A991AC-F138-43B9-8D77-F17C64E59EE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10B05D9-B8B3-4C8D-B188-C369FA0BED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80E67-EA8C-4261-B9A3-3DB2350C3D5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38E7596-4692-4054-8134-528C291C158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B0A67D-02D6-4648-B5E8-3B4F09B6AF5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C8599B5-FE11-45CD-97A2-4CBE77447DBB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F32CF4-30B2-4BAC-B218-F44D29DED9E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3998CF-3798-4713-A87B-1F6F2B7FCBC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D1F0A1-FABF-4E10-8911-B4B167A1C1B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7E7A66-9AA4-4C9C-8CD1-6F4A43E4975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B20A4E-CE6C-4C0E-ABCB-C2B6AF22A198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E5349B-01E9-4EDD-A8DA-8F33FDA6C1D0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DFC27-3A92-44B4-8718-DAE266438D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1C721-F442-4787-BEF7-AB0AAD6F4950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DD02A4-BD88-4077-9F72-31151416321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913E04-8DEB-4AD8-8B91-29D2540746E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791401-98D6-4D38-8CCE-A6D7C3B2D3B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AE832-A6F1-4171-9716-27C2FE14DD30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03C1B1-F608-483A-B6BF-6A26952A09B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C5DB37-728C-4D52-AFBB-DB9210BC27F3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4320EB-6F8C-4264-B89E-0A8DFB81550F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BAB6A4-9A8A-418F-B165-94929E666A8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D0A61D4-1E0C-4F72-AAD5-621FDAB3EC4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4DDB813-BF90-40D9-988D-8424931FB5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D5BFC-F787-472B-9A7F-9475A0A6B58C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638291-56EF-4E85-B52B-94E1C075229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A535717-020F-44A0-9D57-6A952832921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1973792-0CB6-48B8-B327-0CEC3AC2C7C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6492A67-C0F3-4F25-B15E-FA6170228BC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3540590-8B00-4C08-AE2C-92F58B048DD4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88E0EBB-5F78-40A1-BBB6-2A8272A3197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31EAA6A-9F82-4123-BB74-D7CA6009C2FB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A9CC238-2EDC-4BFA-B3F4-F7ACAB9F7896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1FEAD1D-3CF9-4599-B6E9-8D419056932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DE9B1B-1454-476F-9003-A7C48EAA3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9AE7-BE8D-4709-8890-EA48AC619E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920AC-6706-401B-9FC4-B415FB55C3A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4B6282E-884E-4AEF-B099-4F80A1E3FFB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6DB2CF9-B2EF-41DF-9789-986884EC473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76C55C-B9D3-4A7E-85A9-71667E37DF4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43DE83-45A0-49D1-B1A5-0C960605815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05BDEC2-E09A-40CA-B92A-1F9664F5B75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58819D6-43FF-47BA-87F7-C2EC202EA15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B17B113-EE30-44F8-B523-A1107C425E8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86D2133-29E9-4474-A17D-05EBA9A2B6A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4F36BDB-0779-4127-B94F-A70DDE6BF0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38A35-CC48-448C-878B-453B5262C3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B5168-AC3C-4143-A0B7-EF43CAC9D2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F72D-6907-4E56-8D30-FACB1AFCB4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5F71-292B-4F5C-9A57-8F61236EC6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476F-D6BE-4E85-8651-DF71DDC14E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D5F5-8128-4C9F-A217-86BB854059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6FB6-A377-43F9-BC8B-0F25392DAD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2A27-8841-4012-9536-CE8FD327C9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D9C5-69DE-4189-BAA1-C0597FB19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AC01-9F8B-4DF5-91F6-0A405EAB5C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1D86-2280-4A7F-A501-560EAA90C4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A86B-7220-4BED-9CA6-5AA4F73B6A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FC29-D3EC-4637-8A00-611C8A5D17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0D87-87AA-4055-9787-CE0E9AA79C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9B88-3DB3-4157-8736-EE11EE6727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5B1C-004B-4519-8727-6321CC5BD7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AA072-00B5-461E-8148-F400A27A8A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C27DE-2492-484F-8AC5-2E2C6BE3D3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EECD6-D039-4426-8C90-6EACC26CE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lèche et barres"/>
          <p:cNvPicPr/>
          <p:nvPr/>
        </p:nvPicPr>
        <p:blipFill>
          <a:blip r:embed="rId2"/>
          <a:stretch/>
        </p:blipFill>
        <p:spPr>
          <a:xfrm>
            <a:off x="0" y="898560"/>
            <a:ext cx="998640" cy="74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87960" y="7226280"/>
            <a:ext cx="490680" cy="224280"/>
          </a:xfrm>
          <a:prstGeom prst="rect">
            <a:avLst/>
          </a:prstGeom>
          <a:solidFill>
            <a:srgbClr val="6a8c9d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B02-97E2-4EAA-A29B-E41823490F9B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logo-2,5cm-+-ombre"/>
          <p:cNvPicPr/>
          <p:nvPr/>
        </p:nvPicPr>
        <p:blipFill>
          <a:blip r:embed="rId3"/>
          <a:stretch/>
        </p:blipFill>
        <p:spPr>
          <a:xfrm>
            <a:off x="8721720" y="65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Bandeau"/>
          <p:cNvPicPr/>
          <p:nvPr/>
        </p:nvPicPr>
        <p:blipFill>
          <a:blip r:embed="rId4"/>
          <a:stretch/>
        </p:blipFill>
        <p:spPr>
          <a:xfrm>
            <a:off x="0" y="0"/>
            <a:ext cx="5581800" cy="755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3421440" y="7323120"/>
            <a:ext cx="3143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Slid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3"/>
          </p:nvPr>
        </p:nvSpPr>
        <p:spPr>
          <a:xfrm>
            <a:off x="8168760" y="480600"/>
            <a:ext cx="43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5E63-2761-4B0B-87B8-B7B504ECE3C2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IMAGE-PAGE-DE-COUV2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EGOS_VOCATION_quad"/>
          <p:cNvPicPr/>
          <p:nvPr/>
        </p:nvPicPr>
        <p:blipFill>
          <a:blip r:embed="rId3"/>
          <a:stretch/>
        </p:blipFill>
        <p:spPr>
          <a:xfrm>
            <a:off x="3341520" y="6226200"/>
            <a:ext cx="3426120" cy="1044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5AB-C649-44F5-8DCF-588953FB154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1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1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EB47-F03F-4308-820B-C384E5D1AC9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460-3C6F-446A-AC94-D33F6C0B3C7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BF8-F8FF-47AC-ADCD-9EE4365CF73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1E3-67AC-4463-90A3-8765D883D15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9F3-CC49-4049-A4C0-82812087CDF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2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2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941-4C1B-456B-B60E-96B03F63963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MAGE-PAGE-DE-SS-TITRE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7040" y="4132440"/>
            <a:ext cx="5749920" cy="1258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b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673b1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673b15"/>
              </a:solidFill>
              <a:latin typeface="Verdana"/>
            </a:endParaRPr>
          </a:p>
        </p:txBody>
      </p:sp>
      <p:pic>
        <p:nvPicPr>
          <p:cNvPr id="46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SlideMasterXYZ"/>
          <p:cNvSpPr/>
          <p:nvPr/>
        </p:nvSpPr>
        <p:spPr>
          <a:xfrm rot="16200000">
            <a:off x="12600" y="541296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2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0A0-13BF-48BF-9A7A-D20133E85D1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3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9621-794A-4710-B78E-39BDDE8F5C8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1B75-F314-4462-A718-540D5C71F5A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83A-CB68-4FC4-83CB-5C61FC614E3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3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3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BE5-E86A-48A2-8E2A-9272AB67E6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3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3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309-F22B-4A0E-B5A4-6B1973BFF8B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4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4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7646-6C6A-41A3-B11A-359B4D87B19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4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4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84D-02DD-4B29-8838-778F417BF33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0C2B-5D60-4852-AAFA-DF14D1899697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4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EED6-5142-4E6A-84B1-3CE37270599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4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4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5F1-25F2-4283-92BC-CAC271C405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4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4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475-8FE9-432C-9352-45EE601DEB4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5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5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672-CF3D-451B-967B-73DD84F8519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5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5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C01-5B3C-4A38-AFE3-A3285A80680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ftr" idx="5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5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2A1-87AA-4887-9571-E8171CBE26A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1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ftr" idx="5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5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DBA-52B5-4986-B011-B00500DD6D7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1FF-66F9-41C9-AEAD-313F0E70F6A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ftr" idx="6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6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C86-4814-412D-8CF4-7A3D8F9B684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Cegos-Image_6ter"/>
          <p:cNvPicPr/>
          <p:nvPr/>
        </p:nvPicPr>
        <p:blipFill>
          <a:blip r:embed="rId2"/>
          <a:stretch/>
        </p:blipFill>
        <p:spPr>
          <a:xfrm>
            <a:off x="0" y="2651040"/>
            <a:ext cx="9721800" cy="206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7840" y="1790280"/>
            <a:ext cx="5675400" cy="1258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d2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20000"/>
              </a:solidFill>
              <a:latin typeface="Arial Narrow"/>
            </a:endParaRPr>
          </a:p>
        </p:txBody>
      </p:sp>
      <p:pic>
        <p:nvPicPr>
          <p:cNvPr id="129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532480" y="5345280"/>
            <a:ext cx="392112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6440" indent="0"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2500200" y="4960800"/>
            <a:ext cx="2941920" cy="636840"/>
          </a:xfrm>
          <a:custGeom>
            <a:avLst/>
            <a:gdLst/>
            <a:ahLst/>
            <a:rect l="l" t="t" r="r" b="b"/>
            <a:pathLst>
              <a:path w="1853" h="401">
                <a:moveTo>
                  <a:pt x="0" y="0"/>
                </a:moveTo>
                <a:lnTo>
                  <a:pt x="1330" y="0"/>
                </a:lnTo>
                <a:lnTo>
                  <a:pt x="1328" y="401"/>
                </a:lnTo>
                <a:lnTo>
                  <a:pt x="1853" y="401"/>
                </a:lnTo>
              </a:path>
            </a:pathLst>
          </a:custGeom>
          <a:noFill/>
          <a:ln w="19080">
            <a:solidFill>
              <a:srgbClr val="00516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4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ftr" idx="6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sldNum" idx="6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19F6-D62A-4962-8431-4226FB73351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ftr" idx="6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sldNum" idx="6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6D1-3146-4CC6-BEE4-61CAD0794D4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7FC8-6D5E-4E03-B15C-BB5F89BE6C3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ftr" idx="6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sldNum" idx="6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5A1-06BF-4556-B6DD-A51722A2C9A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8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F21-1FEB-4F76-866E-B1D43211772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0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ftr" idx="7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7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C7B-055E-498C-8EEF-4AF8B7437B5D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4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 type="ftr" idx="7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 type="sldNum" idx="7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831-86A6-4E04-897D-0CEC140646C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8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ftr" idx="7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sldNum" idx="7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5527-1B63-4183-B3D4-7B637FBDD8C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3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ftr" idx="7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sldNum" idx="7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E4C3-04BD-4C17-9D38-55A44F01F04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5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17F-EED4-4C8F-8D35-B16708B3867D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7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ftr" idx="8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sldNum" idx="8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A9AF-F96E-48CB-A844-D25431A0866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8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sldNum" idx="8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498-1BEA-404F-ABB4-C33B05B7170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ftr" idx="8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sldNum" idx="8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37B-E5AC-48A9-B3B6-8DEC3EBF3F5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42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ftr" idx="8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sldNum" idx="8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938-B4AE-4F38-9D9E-3A75CAD341F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85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ftr" idx="8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sldNum" idx="89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089-1581-4043-A720-4ACBA25DDCD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28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9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91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934E-15DD-46C5-B4BE-4F415A41B4D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7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9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93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8AC0-B66B-43C3-A3CE-45254294FF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14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ftr" idx="9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sldNum" idx="9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DCD3-090C-4224-92DA-867856C2422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57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ftr" idx="9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sldNum" idx="9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6709-4902-4A69-B266-1D082CD54FA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7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360F-E9D9-4BAE-AE7C-FB96F20FF16B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9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946-8668-4EA8-BAAC-80B83A3C9738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618-D215-489C-A0D8-03B1C356961F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Ellipse 9" descr=""/>
          <p:cNvPicPr/>
          <p:nvPr/>
        </p:nvPicPr>
        <p:blipFill>
          <a:blip r:embed="rId1"/>
          <a:stretch/>
        </p:blipFill>
        <p:spPr>
          <a:xfrm>
            <a:off x="7234200" y="4602240"/>
            <a:ext cx="2668680" cy="1639800"/>
          </a:xfrm>
          <a:prstGeom prst="rect">
            <a:avLst/>
          </a:prstGeom>
          <a:ln w="0">
            <a:noFill/>
          </a:ln>
        </p:spPr>
      </p:pic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Des objectifs </a:t>
            </a:r>
            <a:r>
              <a:rPr b="1" lang="fr-FR" sz="4200" spc="-1" strike="noStrike">
                <a:solidFill>
                  <a:srgbClr val="9e8464"/>
                </a:solidFill>
                <a:latin typeface="Wingdings"/>
                <a:ea typeface="Wingdings"/>
              </a:rPr>
              <a:t></a:t>
            </a: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24" name="Espace réservé du numéro de diapositive 3"/>
          <p:cNvSpPr/>
          <p:nvPr/>
        </p:nvSpPr>
        <p:spPr>
          <a:xfrm>
            <a:off x="7378560" y="7161120"/>
            <a:ext cx="226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4AC-E85E-46A3-BDB2-C5AE32440D37}" type="slidenum">
              <a:rPr b="0" lang="fr-F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5" name="Ellipse 4" descr=""/>
          <p:cNvPicPr/>
          <p:nvPr/>
        </p:nvPicPr>
        <p:blipFill>
          <a:blip r:embed="rId2"/>
          <a:stretch/>
        </p:blipFill>
        <p:spPr>
          <a:xfrm>
            <a:off x="403200" y="1914480"/>
            <a:ext cx="2530440" cy="163980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6"/>
          <p:cNvSpPr/>
          <p:nvPr/>
        </p:nvSpPr>
        <p:spPr>
          <a:xfrm>
            <a:off x="879480" y="2143080"/>
            <a:ext cx="1467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qué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7" name="Ellipse 5"/>
          <p:cNvGrpSpPr/>
          <p:nvPr/>
        </p:nvGrpSpPr>
        <p:grpSpPr>
          <a:xfrm>
            <a:off x="2719440" y="1925640"/>
            <a:ext cx="2333520" cy="1592280"/>
            <a:chOff x="2719440" y="1925640"/>
            <a:chExt cx="2333520" cy="1592280"/>
          </a:xfrm>
        </p:grpSpPr>
        <p:pic>
          <p:nvPicPr>
            <p:cNvPr id="2528" name="Ellipse 5" descr=""/>
            <p:cNvPicPr/>
            <p:nvPr/>
          </p:nvPicPr>
          <p:blipFill>
            <a:blip r:embed="rId3"/>
            <a:stretch/>
          </p:blipFill>
          <p:spPr>
            <a:xfrm>
              <a:off x="2719440" y="1925640"/>
              <a:ext cx="23335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3041640" y="2141640"/>
              <a:ext cx="1360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0" name="Ellipse 6"/>
          <p:cNvGrpSpPr/>
          <p:nvPr/>
        </p:nvGrpSpPr>
        <p:grpSpPr>
          <a:xfrm>
            <a:off x="4992840" y="1925640"/>
            <a:ext cx="2590560" cy="1592280"/>
            <a:chOff x="4992840" y="1925640"/>
            <a:chExt cx="2590560" cy="1592280"/>
          </a:xfrm>
        </p:grpSpPr>
        <p:pic>
          <p:nvPicPr>
            <p:cNvPr id="2531" name="Ellipse 6" descr=""/>
            <p:cNvPicPr/>
            <p:nvPr/>
          </p:nvPicPr>
          <p:blipFill>
            <a:blip r:embed="rId4"/>
            <a:stretch/>
          </p:blipFill>
          <p:spPr>
            <a:xfrm>
              <a:off x="4992840" y="1925640"/>
              <a:ext cx="25905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2" name=""/>
            <p:cNvSpPr/>
            <p:nvPr/>
          </p:nvSpPr>
          <p:spPr>
            <a:xfrm>
              <a:off x="5357880" y="2141640"/>
              <a:ext cx="1538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Informer, 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3" name="Ellipse 7"/>
          <p:cNvGrpSpPr/>
          <p:nvPr/>
        </p:nvGrpSpPr>
        <p:grpSpPr>
          <a:xfrm>
            <a:off x="201600" y="4681440"/>
            <a:ext cx="2511360" cy="1590840"/>
            <a:chOff x="201600" y="4681440"/>
            <a:chExt cx="2511360" cy="1590840"/>
          </a:xfrm>
        </p:grpSpPr>
        <p:pic>
          <p:nvPicPr>
            <p:cNvPr id="2534" name="Ellipse 7" descr=""/>
            <p:cNvPicPr/>
            <p:nvPr/>
          </p:nvPicPr>
          <p:blipFill>
            <a:blip r:embed="rId5"/>
            <a:stretch/>
          </p:blipFill>
          <p:spPr>
            <a:xfrm>
              <a:off x="201600" y="4681440"/>
              <a:ext cx="2511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"/>
            <p:cNvSpPr/>
            <p:nvPr/>
          </p:nvSpPr>
          <p:spPr>
            <a:xfrm>
              <a:off x="550800" y="4898880"/>
              <a:ext cx="148752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6" name="Group 16"/>
          <p:cNvGrpSpPr/>
          <p:nvPr/>
        </p:nvGrpSpPr>
        <p:grpSpPr>
          <a:xfrm>
            <a:off x="2563920" y="4672080"/>
            <a:ext cx="2528280" cy="1639440"/>
            <a:chOff x="2563920" y="4672080"/>
            <a:chExt cx="2528280" cy="1639440"/>
          </a:xfrm>
        </p:grpSpPr>
        <p:pic>
          <p:nvPicPr>
            <p:cNvPr id="2537" name="Ellipse 8" descr=""/>
            <p:cNvPicPr/>
            <p:nvPr/>
          </p:nvPicPr>
          <p:blipFill>
            <a:blip r:embed="rId6"/>
            <a:stretch/>
          </p:blipFill>
          <p:spPr>
            <a:xfrm>
              <a:off x="2563920" y="4672080"/>
              <a:ext cx="252828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Text Box 18"/>
            <p:cNvSpPr/>
            <p:nvPr/>
          </p:nvSpPr>
          <p:spPr>
            <a:xfrm>
              <a:off x="2869200" y="4899240"/>
              <a:ext cx="168480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Promouvo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9" name="Group 19"/>
          <p:cNvGrpSpPr/>
          <p:nvPr/>
        </p:nvGrpSpPr>
        <p:grpSpPr>
          <a:xfrm>
            <a:off x="4861080" y="4672080"/>
            <a:ext cx="2667960" cy="1639440"/>
            <a:chOff x="4861080" y="4672080"/>
            <a:chExt cx="2667960" cy="1639440"/>
          </a:xfrm>
        </p:grpSpPr>
        <p:pic>
          <p:nvPicPr>
            <p:cNvPr id="2540" name="Ellipse 9" descr=""/>
            <p:cNvPicPr/>
            <p:nvPr/>
          </p:nvPicPr>
          <p:blipFill>
            <a:blip r:embed="rId7"/>
            <a:stretch/>
          </p:blipFill>
          <p:spPr>
            <a:xfrm>
              <a:off x="4861080" y="4672080"/>
              <a:ext cx="266796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Text Box 21"/>
            <p:cNvSpPr/>
            <p:nvPr/>
          </p:nvSpPr>
          <p:spPr>
            <a:xfrm>
              <a:off x="5244120" y="4899240"/>
              <a:ext cx="15440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42" name="Ellipse 18" descr=""/>
          <p:cNvPicPr/>
          <p:nvPr/>
        </p:nvPicPr>
        <p:blipFill>
          <a:blip r:embed="rId8"/>
          <a:stretch/>
        </p:blipFill>
        <p:spPr>
          <a:xfrm>
            <a:off x="7238880" y="1914480"/>
            <a:ext cx="2111400" cy="1639800"/>
          </a:xfrm>
          <a:prstGeom prst="rect">
            <a:avLst/>
          </a:prstGeom>
          <a:ln w="0">
            <a:noFill/>
          </a:ln>
        </p:spPr>
      </p:pic>
      <p:sp>
        <p:nvSpPr>
          <p:cNvPr id="2543" name="Text Box 23"/>
          <p:cNvSpPr/>
          <p:nvPr/>
        </p:nvSpPr>
        <p:spPr>
          <a:xfrm>
            <a:off x="7388280" y="2143080"/>
            <a:ext cx="1612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4" name="Rectangle 11"/>
          <p:cNvSpPr/>
          <p:nvPr/>
        </p:nvSpPr>
        <p:spPr>
          <a:xfrm>
            <a:off x="0" y="6300720"/>
            <a:ext cx="9721800" cy="126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5" name="Text Box 28"/>
          <p:cNvSpPr/>
          <p:nvPr/>
        </p:nvSpPr>
        <p:spPr>
          <a:xfrm>
            <a:off x="7604280" y="4813200"/>
            <a:ext cx="1544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Des objectifs </a:t>
            </a:r>
            <a:r>
              <a:rPr b="0" lang="fr-FR" sz="4200" spc="-1" strike="noStrike">
                <a:solidFill>
                  <a:srgbClr val="6a8c9d"/>
                </a:solidFill>
                <a:latin typeface="Wingdings"/>
                <a:ea typeface="Wingdings"/>
              </a:rPr>
              <a:t></a:t>
            </a: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47" name="Ellipse 4"/>
          <p:cNvGrpSpPr/>
          <p:nvPr/>
        </p:nvGrpSpPr>
        <p:grpSpPr>
          <a:xfrm>
            <a:off x="281160" y="1889280"/>
            <a:ext cx="2481120" cy="1592280"/>
            <a:chOff x="281160" y="1889280"/>
            <a:chExt cx="2481120" cy="1592280"/>
          </a:xfrm>
        </p:grpSpPr>
        <p:pic>
          <p:nvPicPr>
            <p:cNvPr id="2548" name="Ellipse 4" descr=""/>
            <p:cNvPicPr/>
            <p:nvPr/>
          </p:nvPicPr>
          <p:blipFill>
            <a:blip r:embed="rId1"/>
            <a:stretch/>
          </p:blipFill>
          <p:spPr>
            <a:xfrm>
              <a:off x="281160" y="1889280"/>
              <a:ext cx="24811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9" name=""/>
            <p:cNvSpPr/>
            <p:nvPr/>
          </p:nvSpPr>
          <p:spPr>
            <a:xfrm>
              <a:off x="627120" y="2104920"/>
              <a:ext cx="1463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Conquér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0" name="Ellipse 5"/>
          <p:cNvGrpSpPr/>
          <p:nvPr/>
        </p:nvGrpSpPr>
        <p:grpSpPr>
          <a:xfrm>
            <a:off x="2646360" y="1925640"/>
            <a:ext cx="2406600" cy="1592280"/>
            <a:chOff x="2646360" y="1925640"/>
            <a:chExt cx="2406600" cy="1592280"/>
          </a:xfrm>
        </p:grpSpPr>
        <p:pic>
          <p:nvPicPr>
            <p:cNvPr id="2551" name="Ellipse 5" descr=""/>
            <p:cNvPicPr/>
            <p:nvPr/>
          </p:nvPicPr>
          <p:blipFill>
            <a:blip r:embed="rId2"/>
            <a:stretch/>
          </p:blipFill>
          <p:spPr>
            <a:xfrm>
              <a:off x="2646360" y="1925640"/>
              <a:ext cx="2406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2" name=""/>
            <p:cNvSpPr/>
            <p:nvPr/>
          </p:nvSpPr>
          <p:spPr>
            <a:xfrm>
              <a:off x="2979720" y="2141640"/>
              <a:ext cx="1411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3" name="Ellipse 6"/>
          <p:cNvGrpSpPr/>
          <p:nvPr/>
        </p:nvGrpSpPr>
        <p:grpSpPr>
          <a:xfrm>
            <a:off x="4870440" y="1725480"/>
            <a:ext cx="2567160" cy="1792440"/>
            <a:chOff x="4870440" y="1725480"/>
            <a:chExt cx="2567160" cy="1792440"/>
          </a:xfrm>
        </p:grpSpPr>
        <p:pic>
          <p:nvPicPr>
            <p:cNvPr id="2554" name="Ellipse 6" descr=""/>
            <p:cNvPicPr/>
            <p:nvPr/>
          </p:nvPicPr>
          <p:blipFill>
            <a:blip r:embed="rId3"/>
            <a:stretch/>
          </p:blipFill>
          <p:spPr>
            <a:xfrm>
              <a:off x="4870440" y="1725480"/>
              <a:ext cx="25671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5" name=""/>
            <p:cNvSpPr/>
            <p:nvPr/>
          </p:nvSpPr>
          <p:spPr>
            <a:xfrm>
              <a:off x="5229360" y="1969920"/>
              <a:ext cx="15224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Inform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6" name="Ellipse 7"/>
          <p:cNvGrpSpPr/>
          <p:nvPr/>
        </p:nvGrpSpPr>
        <p:grpSpPr>
          <a:xfrm>
            <a:off x="201600" y="4743360"/>
            <a:ext cx="2449440" cy="1596960"/>
            <a:chOff x="201600" y="4743360"/>
            <a:chExt cx="2449440" cy="1596960"/>
          </a:xfrm>
        </p:grpSpPr>
        <p:pic>
          <p:nvPicPr>
            <p:cNvPr id="2557" name="Ellipse 7" descr=""/>
            <p:cNvPicPr/>
            <p:nvPr/>
          </p:nvPicPr>
          <p:blipFill>
            <a:blip r:embed="rId4"/>
            <a:stretch/>
          </p:blipFill>
          <p:spPr>
            <a:xfrm>
              <a:off x="201600" y="4743360"/>
              <a:ext cx="2449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542880" y="4962600"/>
              <a:ext cx="14446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59" name="Ellipse 8" descr=""/>
          <p:cNvPicPr/>
          <p:nvPr/>
        </p:nvPicPr>
        <p:blipFill>
          <a:blip r:embed="rId5"/>
          <a:stretch/>
        </p:blipFill>
        <p:spPr>
          <a:xfrm>
            <a:off x="2868480" y="4672080"/>
            <a:ext cx="2068560" cy="1639800"/>
          </a:xfrm>
          <a:prstGeom prst="rect">
            <a:avLst/>
          </a:prstGeom>
          <a:ln w="0">
            <a:noFill/>
          </a:ln>
        </p:spPr>
      </p:pic>
      <p:sp>
        <p:nvSpPr>
          <p:cNvPr id="2560" name="Text Box 17"/>
          <p:cNvSpPr/>
          <p:nvPr/>
        </p:nvSpPr>
        <p:spPr>
          <a:xfrm>
            <a:off x="2876400" y="4892760"/>
            <a:ext cx="16797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mouvo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1" name="Ellipse 9"/>
          <p:cNvGrpSpPr/>
          <p:nvPr/>
        </p:nvGrpSpPr>
        <p:grpSpPr>
          <a:xfrm>
            <a:off x="4816440" y="4681440"/>
            <a:ext cx="2754360" cy="1590840"/>
            <a:chOff x="4816440" y="4681440"/>
            <a:chExt cx="2754360" cy="1590840"/>
          </a:xfrm>
        </p:grpSpPr>
        <p:pic>
          <p:nvPicPr>
            <p:cNvPr id="2562" name="Ellipse 9" descr=""/>
            <p:cNvPicPr/>
            <p:nvPr/>
          </p:nvPicPr>
          <p:blipFill>
            <a:blip r:embed="rId6"/>
            <a:stretch/>
          </p:blipFill>
          <p:spPr>
            <a:xfrm>
              <a:off x="4816440" y="4681440"/>
              <a:ext cx="2754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3" name=""/>
            <p:cNvSpPr/>
            <p:nvPr/>
          </p:nvSpPr>
          <p:spPr>
            <a:xfrm>
              <a:off x="5203800" y="4898880"/>
              <a:ext cx="1655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4" name="ZoneTexte 11"/>
          <p:cNvSpPr/>
          <p:nvPr/>
        </p:nvSpPr>
        <p:spPr>
          <a:xfrm>
            <a:off x="0" y="3192480"/>
            <a:ext cx="2975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férenc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ospection e-mai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arraina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nu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5" name="ZoneTexte 12"/>
          <p:cNvSpPr/>
          <p:nvPr/>
        </p:nvSpPr>
        <p:spPr>
          <a:xfrm>
            <a:off x="2641680" y="3228840"/>
            <a:ext cx="2546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ptimiser la relation : e-mailing, newsletter, espace client, extra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ZoneTexte 13"/>
          <p:cNvSpPr/>
          <p:nvPr/>
        </p:nvSpPr>
        <p:spPr>
          <a:xfrm>
            <a:off x="5103720" y="32288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, site événementiel Newsletter, R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ZoneTexte 14"/>
          <p:cNvSpPr/>
          <p:nvPr/>
        </p:nvSpPr>
        <p:spPr>
          <a:xfrm>
            <a:off x="114480" y="6018120"/>
            <a:ext cx="272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Newsletter, Jeux, Sondag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études, questionnaires, parrainag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ZoneTexte 15"/>
          <p:cNvSpPr/>
          <p:nvPr/>
        </p:nvSpPr>
        <p:spPr>
          <a:xfrm>
            <a:off x="2563920" y="6018120"/>
            <a:ext cx="245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licitaires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annièr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ZoneTexte 16"/>
          <p:cNvSpPr/>
          <p:nvPr/>
        </p:nvSpPr>
        <p:spPr>
          <a:xfrm>
            <a:off x="5397480" y="6018120"/>
            <a:ext cx="17496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Forums, SAV, FAQ, Gérer la relation client via S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0" name="Ellipse 18" descr=""/>
          <p:cNvPicPr/>
          <p:nvPr/>
        </p:nvPicPr>
        <p:blipFill>
          <a:blip r:embed="rId7"/>
          <a:stretch/>
        </p:blipFill>
        <p:spPr>
          <a:xfrm>
            <a:off x="7238880" y="178596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28"/>
          <p:cNvSpPr/>
          <p:nvPr/>
        </p:nvSpPr>
        <p:spPr>
          <a:xfrm>
            <a:off x="7534440" y="2143080"/>
            <a:ext cx="1460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ZoneTexte 19"/>
          <p:cNvSpPr/>
          <p:nvPr/>
        </p:nvSpPr>
        <p:spPr>
          <a:xfrm>
            <a:off x="7066080" y="3228840"/>
            <a:ext cx="23889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uzz, Marketing vi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unaut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ums, chats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éseaux sociau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log seeding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3" name="Ellipse 9"/>
          <p:cNvGrpSpPr/>
          <p:nvPr/>
        </p:nvGrpSpPr>
        <p:grpSpPr>
          <a:xfrm>
            <a:off x="7321680" y="4664160"/>
            <a:ext cx="2547720" cy="1590480"/>
            <a:chOff x="7321680" y="4664160"/>
            <a:chExt cx="2547720" cy="1590480"/>
          </a:xfrm>
        </p:grpSpPr>
        <p:pic>
          <p:nvPicPr>
            <p:cNvPr id="2574" name="Ellipse 9" descr=""/>
            <p:cNvPicPr/>
            <p:nvPr/>
          </p:nvPicPr>
          <p:blipFill>
            <a:blip r:embed="rId8"/>
            <a:stretch/>
          </p:blipFill>
          <p:spPr>
            <a:xfrm>
              <a:off x="7321680" y="4664160"/>
              <a:ext cx="2547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7678800" y="4881600"/>
              <a:ext cx="15080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Vendr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6" name="ZoneTexte 16"/>
          <p:cNvSpPr/>
          <p:nvPr/>
        </p:nvSpPr>
        <p:spPr>
          <a:xfrm>
            <a:off x="7629480" y="59612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 e-comme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arateu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8:31Z</dcterms:created>
  <dc:creator/>
  <dc:description/>
  <dc:language>en-US</dc:language>
  <cp:lastModifiedBy/>
  <dcterms:modified xsi:type="dcterms:W3CDTF">2014-11-23T15:59:22Z</dcterms:modified>
  <cp:revision>1</cp:revision>
  <dc:subject/>
  <dc:title/>
</cp:coreProperties>
</file>